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0808"/>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E2E5-A63B-431D-B24E-82DA6EF13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4446-0E50-416C-B962-E24FAB950AE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EE4F-ED59-4344-BA6C-0FB8241AFEA7}"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0FAC-70FC-4554-A5DB-81EF3D7DFB2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308F-DA3C-4BC5-8195-6B25D2EFE899}"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F07D-BC65-4A70-83BA-5075BF2224F3}"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2B46-C68E-4DCC-99F5-DB44B03BD0A0}"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BFFD-BBC1-4CAC-9F2F-DC61C724CCB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B833-F6CD-412B-93D0-D8031E15C52A}"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C362-74CD-4335-A226-93E5460F7787}"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2A69-5235-4C17-86F8-EBDBAD47FE9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E25C-604A-44F3-97B7-F916447CAE86}"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65E5-86FC-4108-B065-2ABECB530899}"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D408-E1CD-4056-B7DA-B5EA25D36DBD}"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4ACD-AAFC-4600-B2D4-89F7B916120D}"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8CFB-CCE9-4E76-B46A-E50127BDE4F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AA3D-FA8D-41CB-ABFA-DDD78299EF7E}"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6645-80D9-4CB0-A288-AC2DDCC4E8A9}"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0DE7-687E-4BCF-B88B-7DBB057D9914}"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DFD85-2A86-4845-9846-820F012DCB63}"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FBB6-7C79-45F5-93BB-42839C0E58C8}"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B7EB-4F70-4D55-A704-AEB955C67886}"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1948-F512-432E-9A48-3954E21E4324}"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A908-B9DB-45C5-927A-99B911E4264F}"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B481-5DE0-44D4-BAC5-8D6D231F8D24}"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BABB-A107-4E33-820B-19FF2B3A78AA}"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941F-A3C4-47D6-AA5E-7258BA00CE7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AAD5-B15F-40FE-AF53-77D515B0611C}"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A5B7-0DFC-49AF-B26C-C725804EDBC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FA26-E55B-4CBA-80AF-E8A2A7B6F859}"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51FA-DA55-4071-884C-68F3F5FECC2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4D07-C375-4CDF-9B84-1FEB1E3D6666}"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860B-0CBD-4BB1-8F77-11C33AF20794}"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C691-63FE-4AFA-BF30-972E2C52A31E}"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8055-8F8D-47BF-8555-2D823329F24D}"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658D-7382-45F1-8127-CCB7269A0DBF}"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A95B-23D9-4367-AE3F-84B9F233523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9A2B-4CC8-4D06-AB86-B1AB6293F0F5}"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6F4E-90A0-43EC-AC6B-A3AC66D774CF}"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89A3-45EA-4196-9904-A65023549AB8}"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15CD-A8A2-407B-A939-178904A2BDFC}"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8AB0-D57C-4F0E-8313-C03A9790807C}"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226A-B4C9-4104-8E85-65B7C4F8AB3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33F9-6DA1-49F4-B2E4-AA1DEDF10ED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367D-CE14-4803-B2FF-F1BD1DD4685A}"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8401-8126-413B-BF7B-306852C863B9}"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43BE-645F-4A36-98A7-815F3B34615C}"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FCD8-90D5-4E8B-A01D-EC5D764EC26D}"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4B25-3156-4B67-900B-419786D48B77}"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6146-38BE-4EE2-BF3D-24C129B7099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3766-0A8C-4666-8999-FCBB3CDAD67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F719B-0211-4425-BD55-2AE0CAD62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DC68E-9E7D-4FA5-A764-797A1F531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57FD6-DD5D-41E3-874B-36993E58A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23CF1-BCD0-46D7-BF6A-AE076EA12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37763-D7CB-486E-ABAC-1F06E5F0E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7186F-88F2-4CD8-B7F0-233ABA3DA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97942-A5AE-4FBB-8062-A424D2F5C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8D643-C79C-429A-8949-DFAF0E4E3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3E2A2-DCEC-4C08-8B56-AE4D047E2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77797-8E68-4CE5-81A5-9C83C7108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F0B38-AEA4-4ADA-BF3E-5A1DFC2E6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17E5D-CAB3-4B0F-93B8-AD1E0EEC4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A4DA2-26EA-479C-9545-232A6975E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8CE38-5DB2-414C-9626-24480AB08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4AF10-4596-43D6-A09F-3CAB0E192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8BD27-CEAC-4E97-9355-9EB362C14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9798A-4CE5-4DB9-959A-782D24EC2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0EB03-4D37-4FF5-9D85-95CEF8999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6C3AC-67F7-4637-A4B3-A9FE79200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033D6-AA34-440B-A952-244986E26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13408-F661-437D-86E2-55DEB31A7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9DB5-DEDD-4B11-9C17-4BB43A6CF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FAE1-AC03-4897-8CE4-99694A809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6AA82-95D0-4D34-BAF2-A7B6460CA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005E-DA7A-4128-A567-5EF8254BE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9E2C-68A8-45B4-8BA4-7681455CB601}"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C694-A067-40F9-8F0B-16070F61385D}"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0" name="PlaceHolder 1"/>
          <p:cNvSpPr>
            <a:spLocks noGrp="1"/>
          </p:cNvSpPr>
          <p:nvPr>
            <p:ph type="title"/>
          </p:nvPr>
        </p:nvSpPr>
        <p:spPr>
          <a:xfrm>
            <a:off x="304920" y="49525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ising Entrepreneurial Capital</a:t>
            </a:r>
            <a:r>
              <a:rPr b="0" lang="en-US" sz="4400" spc="-1" strike="noStrike">
                <a:solidFill>
                  <a:srgbClr val="000000"/>
                </a:solidFill>
                <a:latin typeface="Tahoma"/>
              </a:rPr>
              <a:t> </a:t>
            </a:r>
            <a:endParaRPr b="0" lang="en-US" sz="4400" spc="-1" strike="noStrike">
              <a:solidFill>
                <a:srgbClr val="080808"/>
              </a:solidFill>
              <a:latin typeface="Tahoma"/>
            </a:endParaRPr>
          </a:p>
        </p:txBody>
      </p:sp>
      <p:sp>
        <p:nvSpPr>
          <p:cNvPr id="91" name="PlaceHolder 2"/>
          <p:cNvSpPr>
            <a:spLocks noGrp="1"/>
          </p:cNvSpPr>
          <p:nvPr>
            <p:ph type="subTitle"/>
          </p:nvPr>
        </p:nvSpPr>
        <p:spPr>
          <a:xfrm>
            <a:off x="4114440" y="228240"/>
            <a:ext cx="4800600" cy="5715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Chapter 7: Exit Strategies </a:t>
            </a:r>
            <a:endParaRPr b="0" lang="en-US" sz="3200" spc="-1" strike="noStrike">
              <a:solidFill>
                <a:srgbClr val="080808"/>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Opportunities for Early Stage Investors to Monetize Their Investment:</a:t>
            </a:r>
            <a:endParaRPr b="0" lang="en-US" sz="2400" spc="-1" strike="noStrike">
              <a:solidFill>
                <a:srgbClr val="080808"/>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A Comparison of Options and Methods</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E96F-ED5A-4011-9961-D1ADE5C5AFA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cquisition by a Strategic Buyer: Stock Swap Cons</a:t>
            </a:r>
            <a:endParaRPr b="0" lang="en-US" sz="3200" spc="-1" strike="noStrike">
              <a:solidFill>
                <a:srgbClr val="080808"/>
              </a:solidFill>
              <a:latin typeface="Tahoma"/>
            </a:endParaRPr>
          </a:p>
        </p:txBody>
      </p:sp>
      <p:sp>
        <p:nvSpPr>
          <p:cNvPr id="11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hares come with restrictions. They vest over time and can not be sold immediately.</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buyer’s shares, if publicly traded, usually go down in such an acquisition, even if only temporarily.</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vement in share prices during negotiations makes the purchase price a moving targe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E311-C5C2-43F7-B366-5C57EE582792}"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Growth Through </a:t>
            </a:r>
            <a:br>
              <a:rPr sz="3200"/>
            </a:br>
            <a:r>
              <a:rPr b="1" lang="en-US" sz="3200" spc="-1" strike="noStrike">
                <a:solidFill>
                  <a:srgbClr val="080808"/>
                </a:solidFill>
                <a:latin typeface="Tahoma"/>
              </a:rPr>
              <a:t>Strategic Acquisition</a:t>
            </a:r>
            <a:endParaRPr b="0" lang="en-US" sz="3200" spc="-1" strike="noStrike">
              <a:solidFill>
                <a:srgbClr val="080808"/>
              </a:solidFill>
              <a:latin typeface="Tahoma"/>
            </a:endParaRPr>
          </a:p>
        </p:txBody>
      </p:sp>
      <p:sp>
        <p:nvSpPr>
          <p:cNvPr id="12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me very successful companies plan a significant portion of their growth through acquisition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goal is to create synergie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selling price for a strategic acquisition is typically higher than for a strictly financial sale because the target company offers extra value to the purchaser.</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E98B-8459-4446-B41E-E2A03D4FF26C}"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Options: Earn Out 1</a:t>
            </a:r>
            <a:endParaRPr b="0" lang="en-US" sz="3200" spc="-1" strike="noStrike">
              <a:solidFill>
                <a:srgbClr val="080808"/>
              </a:solidFill>
              <a:latin typeface="Tahoma"/>
            </a:endParaRPr>
          </a:p>
        </p:txBody>
      </p:sp>
      <p:sp>
        <p:nvSpPr>
          <p:cNvPr id="124" name="PlaceHolder 2"/>
          <p:cNvSpPr>
            <a:spLocks noGrp="1"/>
          </p:cNvSpPr>
          <p:nvPr>
            <p:ph/>
          </p:nvPr>
        </p:nvSpPr>
        <p:spPr>
          <a:xfrm>
            <a:off x="1828440" y="1593720"/>
            <a:ext cx="7077240" cy="5075280"/>
          </a:xfrm>
          <a:prstGeom prst="rect">
            <a:avLst/>
          </a:prstGeom>
          <a:noFill/>
          <a:ln w="0">
            <a:noFill/>
          </a:ln>
        </p:spPr>
        <p:txBody>
          <a:bodyPr anchor="t">
            <a:normAutofit fontScale="97000"/>
          </a:bodyPr>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the company is generating significant positive cash flow, it could offer to buy out investors with company earnings.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mparable to a public company buying back its own shares on the open market.</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vestors might be happy with this arrangement, especially if they achieve their targeted return on investment and there are no other viable alternative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198C-CE7E-4BFB-BE85-3B1C93A5D0F1}"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ahoma"/>
              </a:rPr>
              <a:t>Exit Options: Earn Out 2</a:t>
            </a:r>
            <a:endParaRPr b="0" lang="en-US" sz="3600" spc="-1" strike="noStrike">
              <a:solidFill>
                <a:srgbClr val="080808"/>
              </a:solidFill>
              <a:latin typeface="Tahoma"/>
            </a:endParaRPr>
          </a:p>
        </p:txBody>
      </p:sp>
      <p:sp>
        <p:nvSpPr>
          <p:cNvPr id="12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 earn out can also be used to sell the venture to another company.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ften means that the entrepreneur must agree to stay with the company for up to five years, effectively working for someone else, in order to earn out the purchase price.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purchase price may be higher this way than a simple cash offer, but it comes with risk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0455-676D-42F9-9D43-C5457F24E281}"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Exit Options:  </a:t>
            </a:r>
            <a:br>
              <a:rPr sz="3400"/>
            </a:br>
            <a:r>
              <a:rPr b="1" lang="en-US" sz="3400" spc="-1" strike="noStrike">
                <a:solidFill>
                  <a:srgbClr val="080808"/>
                </a:solidFill>
                <a:latin typeface="Tahoma"/>
              </a:rPr>
              <a:t>Debt-Equity Swap - Pros</a:t>
            </a:r>
            <a:endParaRPr b="0" lang="en-US" sz="3400" spc="-1" strike="noStrike">
              <a:solidFill>
                <a:srgbClr val="080808"/>
              </a:solidFill>
              <a:latin typeface="Tahoma"/>
            </a:endParaRPr>
          </a:p>
        </p:txBody>
      </p:sp>
      <p:sp>
        <p:nvSpPr>
          <p:cNvPr id="13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this scenario, creditors accept equity shares in the company in exchange for their loans (notes, bonds, mortgage liens). For an otherwise profitable business, this can:</a:t>
            </a:r>
            <a:endParaRPr b="0" lang="en-US" sz="28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duce interest payments and increase free cash flow.</a:t>
            </a:r>
            <a:endParaRPr b="0" lang="en-US" sz="28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mprove the balance sheet and profitability.</a:t>
            </a:r>
            <a:endParaRPr b="0" lang="en-US" sz="28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mprove the company’s valuation.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AF26-B885-4FE0-BB07-59191FA1E652}"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Exit Options:  </a:t>
            </a:r>
            <a:br>
              <a:rPr sz="3400"/>
            </a:br>
            <a:r>
              <a:rPr b="1" lang="en-US" sz="3400" spc="-1" strike="noStrike">
                <a:solidFill>
                  <a:srgbClr val="080808"/>
                </a:solidFill>
                <a:latin typeface="Tahoma"/>
              </a:rPr>
              <a:t>Debt-Equity Swap - Cons</a:t>
            </a:r>
            <a:endParaRPr b="0" lang="en-US" sz="3400" spc="-1" strike="noStrike">
              <a:solidFill>
                <a:srgbClr val="080808"/>
              </a:solidFill>
              <a:latin typeface="Tahoma"/>
            </a:endParaRPr>
          </a:p>
        </p:txBody>
      </p:sp>
      <p:sp>
        <p:nvSpPr>
          <p:cNvPr id="13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n be a desperation move taken by a management with no other options. </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ffectively, the creditors may be exchanging their loans for nearly worthless equity.</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xisting equity holders are often diluted to near zero.</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ill, can give the company a chance to surviv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6192-5882-429E-9065-D887A096A3D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Options:</a:t>
            </a:r>
            <a:br>
              <a:rPr sz="3200"/>
            </a:br>
            <a:r>
              <a:rPr b="1" lang="en-US" sz="3200" spc="-1" strike="noStrike">
                <a:solidFill>
                  <a:srgbClr val="080808"/>
                </a:solidFill>
                <a:latin typeface="Tahoma"/>
              </a:rPr>
              <a:t>Merger</a:t>
            </a:r>
            <a:endParaRPr b="0" lang="en-US" sz="3200" spc="-1" strike="noStrike">
              <a:solidFill>
                <a:srgbClr val="080808"/>
              </a:solidFill>
              <a:latin typeface="Tahoma"/>
            </a:endParaRPr>
          </a:p>
        </p:txBody>
      </p:sp>
      <p:sp>
        <p:nvSpPr>
          <p:cNvPr id="13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rriage of equals? There is nearly always one dominant partner.</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basic objective is to increase shareholder value through a combination of product and operational synergies, cost reductions, and increased market share.</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ue diligence is critical, as the role of clashing corporate cultures is often overlooked or minimized.</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8664-1DDB-40A1-943F-9174590DD7E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Options:</a:t>
            </a:r>
            <a:br>
              <a:rPr sz="3200"/>
            </a:br>
            <a:r>
              <a:rPr b="1" lang="en-US" sz="3200" spc="-1" strike="noStrike">
                <a:solidFill>
                  <a:srgbClr val="080808"/>
                </a:solidFill>
                <a:latin typeface="Tahoma"/>
              </a:rPr>
              <a:t>Liquidation</a:t>
            </a:r>
            <a:endParaRPr b="0" lang="en-US" sz="3200" spc="-1" strike="noStrike">
              <a:solidFill>
                <a:srgbClr val="080808"/>
              </a:solidFill>
              <a:latin typeface="Tahoma"/>
            </a:endParaRPr>
          </a:p>
        </p:txBody>
      </p:sp>
      <p:sp>
        <p:nvSpPr>
          <p:cNvPr id="13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business could simply sell off the assets, pay off all debts, and cease operation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rmally, this is seen as an option for businesses with no value as a going concern.</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iquidation does not necessarily mean failure – sometimes done voluntarily with no remaining debt.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1C8C-6D49-4118-96C0-82D3F32D6708}"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Other Potential Buyers</a:t>
            </a:r>
            <a:endParaRPr b="0" lang="en-US" sz="3200" spc="-1" strike="noStrike">
              <a:solidFill>
                <a:srgbClr val="080808"/>
              </a:solidFill>
              <a:latin typeface="Tahoma"/>
            </a:endParaRPr>
          </a:p>
        </p:txBody>
      </p:sp>
      <p:sp>
        <p:nvSpPr>
          <p:cNvPr id="14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dividual buyers may be interested in running the business themselves. May ask for seller-financing (beware).</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quity Group buyers are groups of professional investors who may see unrealized potential in your company, or potential for synergies with other companies they own.</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1179-9EF2-4B42-A1D9-90989E1A5D7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More Potential Buyers</a:t>
            </a:r>
            <a:endParaRPr b="0" lang="en-US" sz="3200" spc="-1" strike="noStrike">
              <a:solidFill>
                <a:srgbClr val="080808"/>
              </a:solidFill>
              <a:latin typeface="Tahoma"/>
            </a:endParaRPr>
          </a:p>
        </p:txBody>
      </p:sp>
      <p:sp>
        <p:nvSpPr>
          <p:cNvPr id="14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artners: Existing partners, if any, may be willing to buy out a retiring or leaving partner. There should be a mechanism in the partnership agreement to cover this situation.</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amily members: A desire for continuation of ownership, plus tax considerations, often mean more to family-owned businesses than to othe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5EF2-36B0-4941-AA30-D48E74BED5A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Strategies</a:t>
            </a:r>
            <a:endParaRPr b="0" lang="en-US" sz="3200" spc="-1" strike="noStrike">
              <a:solidFill>
                <a:srgbClr val="080808"/>
              </a:solidFill>
              <a:latin typeface="Tahoma"/>
            </a:endParaRPr>
          </a:p>
        </p:txBody>
      </p:sp>
      <p:sp>
        <p:nvSpPr>
          <p:cNvPr id="94" name="PlaceHolder 2"/>
          <p:cNvSpPr>
            <a:spLocks noGrp="1"/>
          </p:cNvSpPr>
          <p:nvPr>
            <p:ph/>
          </p:nvPr>
        </p:nvSpPr>
        <p:spPr>
          <a:xfrm>
            <a:off x="1828440" y="1593720"/>
            <a:ext cx="7077240" cy="507528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Topics Covered in this Chapter</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ergers and Acquisition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nagement Buyouts and Earnout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lling Shares to the Public</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S Stock Exchanges and Listing Requirement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1052-ECA1-4B33-81A1-96E7E41F6E79}"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SOP</a:t>
            </a:r>
            <a:endParaRPr b="0" lang="en-US" sz="3200" spc="-1" strike="noStrike">
              <a:solidFill>
                <a:srgbClr val="080808"/>
              </a:solidFill>
              <a:latin typeface="Tahoma"/>
            </a:endParaRPr>
          </a:p>
        </p:txBody>
      </p:sp>
      <p:sp>
        <p:nvSpPr>
          <p:cNvPr id="14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mployees can buy their company, or a large portion of it, through an Employee Stock Ownership Plan (ESOP).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 ESOP can offer liquidity without taking the company public, as well as produce certain tax benefit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SOPs are not a perfect solution for everyone. If the company fails pension funds can be los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4A69-FD24-40D4-9C38-316CC98DEB6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Going Public - Pros</a:t>
            </a:r>
            <a:endParaRPr b="0" lang="en-US" sz="3200" spc="-1" strike="noStrike">
              <a:solidFill>
                <a:srgbClr val="080808"/>
              </a:solidFill>
              <a:latin typeface="Tahoma"/>
            </a:endParaRPr>
          </a:p>
        </p:txBody>
      </p:sp>
      <p:sp>
        <p:nvSpPr>
          <p:cNvPr id="15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lure of “going public” is enormous in times of rising stock price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 IPO usually creates much greater liquidity and increased enterprise valuation.</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ublic companies often have a significant advantage in hiring talented people, as they can offer stock option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F406-FEAA-4D6D-8A1D-447EC08FC8AD}"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ahoma"/>
              </a:rPr>
              <a:t>Going Public - Cons</a:t>
            </a:r>
            <a:endParaRPr b="0" lang="en-US" sz="3600" spc="-1" strike="noStrike">
              <a:solidFill>
                <a:srgbClr val="080808"/>
              </a:solidFill>
              <a:latin typeface="Tahoma"/>
            </a:endParaRPr>
          </a:p>
        </p:txBody>
      </p:sp>
      <p:sp>
        <p:nvSpPr>
          <p:cNvPr id="15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IPO is not necessarily an immediate exit strategy for the entrepreneur. Shares and share options vest over time, and are often “locked” for a period of time.</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a falling stock market, going public may be seen as a desperation move, and your issue may attract few buye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5D8B-D629-4BFB-9221-E577B4132141}"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ahoma"/>
              </a:rPr>
              <a:t>Going Public is Expensive</a:t>
            </a:r>
            <a:endParaRPr b="0" lang="en-US" sz="3600" spc="-1" strike="noStrike">
              <a:solidFill>
                <a:srgbClr val="080808"/>
              </a:solidFill>
              <a:latin typeface="Tahoma"/>
            </a:endParaRPr>
          </a:p>
        </p:txBody>
      </p:sp>
      <p:sp>
        <p:nvSpPr>
          <p:cNvPr id="15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ublicly held companies have very significant legal obligations to report accurate information to shareholder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is expensive, time-consuming, and sometimes contrary to the way an entrepreneur thinks of “his” busines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tangible costs of the IPO process include being a serious drain on management time and attention.</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ED33-2382-4020-9657-63B99B12E6E0}"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Going Public:</a:t>
            </a:r>
            <a:br>
              <a:rPr sz="3200"/>
            </a:br>
            <a:r>
              <a:rPr b="1" lang="en-US" sz="3200" spc="-1" strike="noStrike">
                <a:solidFill>
                  <a:srgbClr val="080808"/>
                </a:solidFill>
                <a:latin typeface="Tahoma"/>
              </a:rPr>
              <a:t>Constraints</a:t>
            </a:r>
            <a:endParaRPr b="0" lang="en-US" sz="3200" spc="-1" strike="noStrike">
              <a:solidFill>
                <a:srgbClr val="080808"/>
              </a:solidFill>
              <a:latin typeface="Tahoma"/>
            </a:endParaRPr>
          </a:p>
        </p:txBody>
      </p:sp>
      <p:sp>
        <p:nvSpPr>
          <p:cNvPr id="16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r the entrepreneur, the primary goal is to retain a controlling interest in the company after the IPO.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good news is that removing the venture capitalists from the equation via the IPO creates a more level playing field and should give more control to the entrepreneur.</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worst case is losing control and being removed from managemen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763A-2FE9-496F-9110-E40CE511D49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Going Public: Considerations</a:t>
            </a:r>
            <a:endParaRPr b="0" lang="en-US" sz="4400" spc="-1" strike="noStrike">
              <a:solidFill>
                <a:srgbClr val="080808"/>
              </a:solidFill>
              <a:latin typeface="Tahoma"/>
            </a:endParaRPr>
          </a:p>
        </p:txBody>
      </p:sp>
      <p:sp>
        <p:nvSpPr>
          <p:cNvPr id="16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nce the company has established itself and begun to show profits, the perceived investment risk may be low enough to attract investors on the public equity markets.</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POs are often undervalued as an inducement for investors to take a chance on an unproven compan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F865-85B8-4F9E-856B-FA509660C64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sting Requirements:</a:t>
            </a:r>
            <a:br>
              <a:rPr sz="3200"/>
            </a:br>
            <a:r>
              <a:rPr b="1" lang="en-US" sz="3200" spc="-1" strike="noStrike">
                <a:solidFill>
                  <a:srgbClr val="080808"/>
                </a:solidFill>
                <a:latin typeface="Tahoma"/>
              </a:rPr>
              <a:t>National Stock Exchanges</a:t>
            </a:r>
            <a:endParaRPr b="0" lang="en-US" sz="3200" spc="-1" strike="noStrike">
              <a:solidFill>
                <a:srgbClr val="080808"/>
              </a:solidFill>
              <a:latin typeface="Tahoma"/>
            </a:endParaRPr>
          </a:p>
        </p:txBody>
      </p:sp>
      <p:sp>
        <p:nvSpPr>
          <p:cNvPr id="16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The New York Stock Exchange (NYSE) generally requires the following as a minimum for listing: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2 000 holders of 100 shares or more.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Total of 1.1mil common shares publicly held.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Market value of publicly held shares of $100,000,000; $60,000,000 for IPOs.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Aggregate pre-tax earnings for the last three fiscal years of $6.5 million.</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5A59-248D-49CA-AB46-ED86BBB941BC}"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sting Requirements:</a:t>
            </a:r>
            <a:br>
              <a:rPr sz="3200"/>
            </a:br>
            <a:r>
              <a:rPr b="1" lang="en-US" sz="3200" spc="-1" strike="noStrike">
                <a:solidFill>
                  <a:srgbClr val="080808"/>
                </a:solidFill>
                <a:latin typeface="Tahoma"/>
              </a:rPr>
              <a:t>National Stock Exchanges</a:t>
            </a:r>
            <a:endParaRPr b="0" lang="en-US" sz="3200" spc="-1" strike="noStrike">
              <a:solidFill>
                <a:srgbClr val="080808"/>
              </a:solidFill>
              <a:latin typeface="Tahoma"/>
            </a:endParaRPr>
          </a:p>
        </p:txBody>
      </p:sp>
      <p:sp>
        <p:nvSpPr>
          <p:cNvPr id="16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10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NASDAQ offers separate standards for initial and continued listings. Its Standard 3 for initial listing offers a basis for comparison: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400 public shareholders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Total of 1.1mil shares publicly held.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Publicly held shares worth $20mil.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Minimum bid price of $5.</a:t>
            </a:r>
            <a:endParaRPr b="0" lang="en-US" sz="2800" spc="-1" strike="noStrike">
              <a:solidFill>
                <a:srgbClr val="080808"/>
              </a:solidFill>
              <a:latin typeface="Tahoma"/>
            </a:endParaRPr>
          </a:p>
          <a:p>
            <a:pPr marL="343080" indent="-34308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Maintain market value of $15mil, bid price of $1.</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92CA-1C8F-4395-B063-81784A173068}"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sting Requirements:</a:t>
            </a:r>
            <a:br>
              <a:rPr sz="3200"/>
            </a:br>
            <a:r>
              <a:rPr b="1" lang="en-US" sz="3200" spc="-1" strike="noStrike">
                <a:solidFill>
                  <a:srgbClr val="080808"/>
                </a:solidFill>
                <a:latin typeface="Tahoma"/>
              </a:rPr>
              <a:t>National Stock Exchanges</a:t>
            </a:r>
            <a:endParaRPr b="0" lang="en-US" sz="3200" spc="-1" strike="noStrike">
              <a:solidFill>
                <a:srgbClr val="080808"/>
              </a:solidFill>
              <a:latin typeface="Tahoma"/>
            </a:endParaRPr>
          </a:p>
        </p:txBody>
      </p:sp>
      <p:sp>
        <p:nvSpPr>
          <p:cNvPr id="17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American Stock Exchange (AmEx) Standard 1:</a:t>
            </a:r>
            <a:endParaRPr b="0" lang="en-US" sz="2800" spc="-1" strike="noStrike">
              <a:solidFill>
                <a:srgbClr val="080808"/>
              </a:solidFill>
              <a:latin typeface="Tahoma"/>
            </a:endParaRPr>
          </a:p>
          <a:p>
            <a:pPr lvl="1" marL="743040" indent="-28584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800 public shareholders </a:t>
            </a:r>
            <a:endParaRPr b="0" lang="en-US" sz="2800" spc="-1" strike="noStrike">
              <a:solidFill>
                <a:srgbClr val="080808"/>
              </a:solidFill>
              <a:latin typeface="Tahoma"/>
            </a:endParaRPr>
          </a:p>
          <a:p>
            <a:pPr lvl="1" marL="743040" indent="-28584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Total of 500,000 shares publicly held. </a:t>
            </a:r>
            <a:endParaRPr b="0" lang="en-US" sz="2800" spc="-1" strike="noStrike">
              <a:solidFill>
                <a:srgbClr val="080808"/>
              </a:solidFill>
              <a:latin typeface="Tahoma"/>
            </a:endParaRPr>
          </a:p>
          <a:p>
            <a:pPr lvl="1" marL="743040" indent="-28584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Market value of publicly held shares of $3,000,000. </a:t>
            </a:r>
            <a:endParaRPr b="0" lang="en-US" sz="2800" spc="-1" strike="noStrike">
              <a:solidFill>
                <a:srgbClr val="080808"/>
              </a:solidFill>
              <a:latin typeface="Tahoma"/>
            </a:endParaRPr>
          </a:p>
          <a:p>
            <a:pPr lvl="1" marL="743040" indent="-28584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Share price of $3.</a:t>
            </a:r>
            <a:endParaRPr b="0" lang="en-US" sz="2800" spc="-1" strike="noStrike">
              <a:solidFill>
                <a:srgbClr val="080808"/>
              </a:solidFill>
              <a:latin typeface="Tahoma"/>
            </a:endParaRPr>
          </a:p>
          <a:p>
            <a:pPr lvl="1" marL="743040" indent="-28584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Pre-tax earnings of $750,000 in last fiscal year or in two of the last three fiscal yea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D2A6-82B7-45E3-A41E-E860D766380D}"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sting Requirements:</a:t>
            </a:r>
            <a:br>
              <a:rPr sz="3200"/>
            </a:br>
            <a:r>
              <a:rPr b="1" lang="en-US" sz="3200" spc="-1" strike="noStrike">
                <a:solidFill>
                  <a:srgbClr val="080808"/>
                </a:solidFill>
                <a:latin typeface="Tahoma"/>
              </a:rPr>
              <a:t>Comparison of Exchanges</a:t>
            </a:r>
            <a:endParaRPr b="0" lang="en-US" sz="3200" spc="-1" strike="noStrike">
              <a:solidFill>
                <a:srgbClr val="080808"/>
              </a:solidFill>
              <a:latin typeface="Tahoma"/>
            </a:endParaRPr>
          </a:p>
        </p:txBody>
      </p:sp>
      <p:sp>
        <p:nvSpPr>
          <p:cNvPr id="17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uring the IPO craze of the 1990’s, the technology-oriented NASDAQ grabbed a disproportionate share of new listing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ven so, the NYSE still dominates in terms of total value of listings, as many of the hot IPOs of the late 90’s are now bankrupt or delisted.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AmEx has not been a major player in new listings for many yea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56D5-F4BC-40E4-9E9E-3A8128C13B69}"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Strategies:</a:t>
            </a:r>
            <a:br>
              <a:rPr sz="3200"/>
            </a:br>
            <a:r>
              <a:rPr b="1" lang="en-US" sz="3200" spc="-1" strike="noStrike">
                <a:solidFill>
                  <a:srgbClr val="080808"/>
                </a:solidFill>
                <a:latin typeface="Tahoma"/>
              </a:rPr>
              <a:t>Basic Considerations</a:t>
            </a:r>
            <a:endParaRPr b="0" lang="en-US" sz="3200" spc="-1" strike="noStrike">
              <a:solidFill>
                <a:srgbClr val="080808"/>
              </a:solidFill>
              <a:latin typeface="Tahoma"/>
            </a:endParaRPr>
          </a:p>
        </p:txBody>
      </p:sp>
      <p:sp>
        <p:nvSpPr>
          <p:cNvPr id="9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very business plan seeking to raise entrepreneurial capital must specify a range of convincing exit option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entrepreneur may never want to exit the business, yet the outside investors definitely will.</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very exit plan must specify “how”, “when”, and “how much.”</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ctual exit is called a “liquidity even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C580-0BD2-4561-8021-7ADE02E31AB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lternative Forms of Listings</a:t>
            </a:r>
            <a:r>
              <a:rPr b="0" lang="en-US" sz="3400" spc="-1" strike="noStrike">
                <a:solidFill>
                  <a:srgbClr val="080808"/>
                </a:solidFill>
                <a:latin typeface="Tahoma"/>
              </a:rPr>
              <a:t> </a:t>
            </a:r>
            <a:endParaRPr b="0" lang="en-US" sz="3400" spc="-1" strike="noStrike">
              <a:solidFill>
                <a:srgbClr val="080808"/>
              </a:solidFill>
              <a:latin typeface="Tahoma"/>
            </a:endParaRPr>
          </a:p>
        </p:txBody>
      </p:sp>
      <p:sp>
        <p:nvSpPr>
          <p:cNvPr id="178" name="PlaceHolder 2"/>
          <p:cNvSpPr>
            <a:spLocks noGrp="1"/>
          </p:cNvSpPr>
          <p:nvPr>
            <p:ph/>
          </p:nvPr>
        </p:nvSpPr>
        <p:spPr>
          <a:xfrm>
            <a:off x="566640" y="1752480"/>
            <a:ext cx="8043840" cy="4267440"/>
          </a:xfrm>
          <a:prstGeom prst="rect">
            <a:avLst/>
          </a:prstGeom>
          <a:noFill/>
          <a:ln w="0">
            <a:noFill/>
          </a:ln>
        </p:spPr>
        <p:txBody>
          <a:bodyPr anchor="t">
            <a:normAutofit/>
          </a:bodyPr>
          <a:p>
            <a:pPr marL="343080" indent="-343080">
              <a:lnSpc>
                <a:spcPct val="90000"/>
              </a:lnSpc>
              <a:spcBef>
                <a:spcPts val="6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80808"/>
                </a:solidFill>
                <a:latin typeface="Tahoma"/>
              </a:rPr>
              <a:t>NASDAQ Small Cap exchange offers an alternative listing opportunity. </a:t>
            </a:r>
            <a:endParaRPr b="0" lang="en-US" sz="2700" spc="-1" strike="noStrike">
              <a:solidFill>
                <a:srgbClr val="080808"/>
              </a:solidFill>
              <a:latin typeface="Tahoma"/>
            </a:endParaRPr>
          </a:p>
          <a:p>
            <a:pPr marL="343080" indent="-343080">
              <a:lnSpc>
                <a:spcPct val="90000"/>
              </a:lnSpc>
              <a:spcBef>
                <a:spcPts val="6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80808"/>
                </a:solidFill>
                <a:latin typeface="Tahoma"/>
              </a:rPr>
              <a:t>The Over-The-Counter (OTC) Bulletin Board is an electronic exchange one step down from the NASDAQ Small Cap.  There is very little regulation. Listing requirements and liquidity are low. Most companies do not want to wind up here, much less start here, but it is a listing opportunity.</a:t>
            </a:r>
            <a:endParaRPr b="0" lang="en-US" sz="27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A487-9AA9-4693-9E8D-0718775B0EC8}"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The IPO Process: Overview</a:t>
            </a:r>
            <a:endParaRPr b="0" lang="en-US" sz="3200" spc="-1" strike="noStrike">
              <a:solidFill>
                <a:srgbClr val="080808"/>
              </a:solidFill>
              <a:latin typeface="Tahoma"/>
            </a:endParaRPr>
          </a:p>
        </p:txBody>
      </p:sp>
      <p:sp>
        <p:nvSpPr>
          <p:cNvPr id="18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7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80808"/>
                </a:solidFill>
                <a:latin typeface="Tahoma"/>
              </a:rPr>
              <a:t>“</a:t>
            </a:r>
            <a:r>
              <a:rPr b="0" lang="en-US" sz="3100" spc="-1" strike="noStrike">
                <a:solidFill>
                  <a:srgbClr val="080808"/>
                </a:solidFill>
                <a:latin typeface="Tahoma"/>
              </a:rPr>
              <a:t>Going public” is a costly, tedious, and uncertain process, especially in a difficult market.</a:t>
            </a:r>
            <a:endParaRPr b="0" lang="en-US" sz="3100" spc="-1" strike="noStrike">
              <a:solidFill>
                <a:srgbClr val="080808"/>
              </a:solidFill>
              <a:latin typeface="Tahoma"/>
            </a:endParaRPr>
          </a:p>
          <a:p>
            <a:pPr marL="343080" indent="-343080">
              <a:spcBef>
                <a:spcPts val="77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80808"/>
                </a:solidFill>
                <a:latin typeface="Tahoma"/>
              </a:rPr>
              <a:t>Management will lose a measure of control after going public, as well as come under additional scrutiny by shareholders and regulators.</a:t>
            </a:r>
            <a:endParaRPr b="0" lang="en-US" sz="31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6927-4FC9-449B-8FC5-FDB1675FF929}"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The IPO Process: Climate Change</a:t>
            </a:r>
            <a:endParaRPr b="0" lang="en-US" sz="3200" spc="-1" strike="noStrike">
              <a:solidFill>
                <a:srgbClr val="080808"/>
              </a:solidFill>
              <a:latin typeface="Tahoma"/>
            </a:endParaRPr>
          </a:p>
        </p:txBody>
      </p:sp>
      <p:sp>
        <p:nvSpPr>
          <p:cNvPr id="18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6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80808"/>
                </a:solidFill>
                <a:latin typeface="Tahoma"/>
              </a:rPr>
              <a:t>A solid track record and excellent growth prospects are generally expected by investors, though during the IPO craze of the 90s, companies with no revenue and no saleable products or services were routinely floated at large valuations. </a:t>
            </a:r>
            <a:endParaRPr b="0" lang="en-US" sz="2700" spc="-1" strike="noStrike">
              <a:solidFill>
                <a:srgbClr val="080808"/>
              </a:solidFill>
              <a:latin typeface="Tahoma"/>
            </a:endParaRPr>
          </a:p>
          <a:p>
            <a:pPr marL="343080" indent="-343080">
              <a:spcBef>
                <a:spcPts val="6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80808"/>
                </a:solidFill>
                <a:latin typeface="Tahoma"/>
              </a:rPr>
              <a:t>Most of them are now out of business or trading for pennies on the OTC.</a:t>
            </a:r>
            <a:endParaRPr b="0" lang="en-US" sz="2700" spc="-1" strike="noStrike">
              <a:solidFill>
                <a:srgbClr val="080808"/>
              </a:solidFill>
              <a:latin typeface="Tahom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86A8-896F-4728-B5CE-A066079F189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Building the Team</a:t>
            </a:r>
            <a:endParaRPr b="0" lang="en-US" sz="3400" spc="-1" strike="noStrike">
              <a:solidFill>
                <a:srgbClr val="080808"/>
              </a:solidFill>
              <a:latin typeface="Tahoma"/>
            </a:endParaRPr>
          </a:p>
        </p:txBody>
      </p:sp>
      <p:sp>
        <p:nvSpPr>
          <p:cNvPr id="18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awyers and accountants must be hired to advise and provide due diligence in their respective areas.</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Your investment banker, also called an underwriter, will lead you through the IPO proces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hoose carefully! Even during the IPO craze, poor results and failures occurred  due to mismanagement of the process by the underwriter.</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8C58-2DC7-4536-8A70-5783D8F323F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Selecting the Underwriter</a:t>
            </a:r>
            <a:endParaRPr b="0" lang="en-US" sz="4400" spc="-1" strike="noStrike">
              <a:solidFill>
                <a:srgbClr val="080808"/>
              </a:solidFill>
              <a:latin typeface="Tahoma"/>
            </a:endParaRPr>
          </a:p>
        </p:txBody>
      </p:sp>
      <p:sp>
        <p:nvSpPr>
          <p:cNvPr id="19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hoosing the right underwriter for your venture is the key to a successful IPO. </a:t>
            </a:r>
            <a:endParaRPr b="0" lang="en-US" sz="24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effect, you are hiring a salesman. They must know the product (you), the market (potential investors), and the sales process relevant for you.</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re are significant differences among investment banks, as measured by their past success, size of typical deals, and the markets in which they deal.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0400-532C-48D6-BA6A-15775163ADD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9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Underwriting Process</a:t>
            </a:r>
            <a:endParaRPr b="0" lang="en-US" sz="3200" spc="-1" strike="noStrike">
              <a:solidFill>
                <a:srgbClr val="080808"/>
              </a:solidFill>
              <a:latin typeface="Tahoma"/>
            </a:endParaRPr>
          </a:p>
        </p:txBody>
      </p:sp>
      <p:sp>
        <p:nvSpPr>
          <p:cNvPr id="19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the American system, the underwriter takes title to the shares and resells them on the day of issuance. They have a strong incentive to price the offering correctly.</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theory, the underwriter could be left holding unsold shares in their own account, something they will do virtually anything to avoid.</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3CDB-A645-4417-84A9-EB8FDB67C181}"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9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Negotiating the Offer</a:t>
            </a:r>
            <a:endParaRPr b="0" lang="en-US" sz="3400" spc="-1" strike="noStrike">
              <a:solidFill>
                <a:srgbClr val="080808"/>
              </a:solidFill>
              <a:latin typeface="Tahoma"/>
            </a:endParaRPr>
          </a:p>
        </p:txBody>
      </p:sp>
      <p:sp>
        <p:nvSpPr>
          <p:cNvPr id="19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You and your underwriter must agree on the total amount to be raised, price of shares, and the fee structure.</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best answer to how much to raise is: As much as the market will bear.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You might never get another chanc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B072-2B04-4155-AB99-6802ABA58007}"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9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Negotiating the Offer</a:t>
            </a:r>
            <a:endParaRPr b="0" lang="en-US" sz="3400" spc="-1" strike="noStrike">
              <a:solidFill>
                <a:srgbClr val="080808"/>
              </a:solidFill>
              <a:latin typeface="Tahoma"/>
            </a:endParaRPr>
          </a:p>
        </p:txBody>
      </p:sp>
      <p:sp>
        <p:nvSpPr>
          <p:cNvPr id="19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Enterprise valuation, not the share price, is the real issue. If you sell 20% for $5 million, you are expecting investors to believe your company is worth $25 million.  You must have a plausible story to convince them of that valuation.</a:t>
            </a:r>
            <a:endParaRPr b="0" lang="en-US" sz="2400" spc="-1" strike="noStrike">
              <a:solidFill>
                <a:srgbClr val="080808"/>
              </a:solidFill>
              <a:latin typeface="Tahoma"/>
            </a:endParaRPr>
          </a:p>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s a modest-sized company, you will probably have little room to negotiate fees. It is more important to ensure that the underwriter will pay attention to your issue.</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A2E5-3A42-4651-A09F-D941373D6FD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0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Negotiating the Offer</a:t>
            </a:r>
            <a:endParaRPr b="0" lang="en-US" sz="3400" spc="-1" strike="noStrike">
              <a:solidFill>
                <a:srgbClr val="080808"/>
              </a:solidFill>
              <a:latin typeface="Tahoma"/>
            </a:endParaRPr>
          </a:p>
        </p:txBody>
      </p:sp>
      <p:sp>
        <p:nvSpPr>
          <p:cNvPr id="20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You should obtain a Firm Commitment from your underwriter. This means they agree to purchase the entire issue and resell it to investor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alternative, a Best Efforts agreement is not, it suggests that your offer is unattractive or you are talking to the wrong underwriter.</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nderwriters are risk avers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EF9E-44DC-44ED-BC3F-31C95D5538F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0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ultural Differences</a:t>
            </a:r>
            <a:endParaRPr b="0" lang="en-US" sz="4400" spc="-1" strike="noStrike">
              <a:solidFill>
                <a:srgbClr val="080808"/>
              </a:solidFill>
              <a:latin typeface="Tahoma"/>
            </a:endParaRPr>
          </a:p>
        </p:txBody>
      </p:sp>
      <p:sp>
        <p:nvSpPr>
          <p:cNvPr id="20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hare prices typically range from $10-20, but that is largely psychological. Americans won’t buy shares priced lower than that because it looks like the company has failed before it started.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Britain, many companies are listed at under $1 per share because British shareholders like the idea of being able to own thousands of shares for very little money.</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F870-4411-45DE-BB73-D693F1B3588C}"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Differing Perspectives:</a:t>
            </a:r>
            <a:br>
              <a:rPr sz="3200"/>
            </a:br>
            <a:r>
              <a:rPr b="1" lang="en-US" sz="3200" spc="-1" strike="noStrike">
                <a:solidFill>
                  <a:srgbClr val="080808"/>
                </a:solidFill>
                <a:latin typeface="Tahoma"/>
              </a:rPr>
              <a:t>Entrepreneur vs. Investor</a:t>
            </a:r>
            <a:endParaRPr b="0" lang="en-US" sz="3200" spc="-1" strike="noStrike">
              <a:solidFill>
                <a:srgbClr val="080808"/>
              </a:solidFill>
              <a:latin typeface="Tahoma"/>
            </a:endParaRPr>
          </a:p>
        </p:txBody>
      </p:sp>
      <p:sp>
        <p:nvSpPr>
          <p:cNvPr id="10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entrepreneur typically has a very long term view of building the business and may not want to exit at all.</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Venture capital investors want to exit at a profit in from 3-7 year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se two perspectives should be reconciled during the initial funding process to prevent unhelpful disagreements later.</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5233-DA5D-457A-AFBA-4F29CD10C285}"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0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Prospectus</a:t>
            </a:r>
            <a:endParaRPr b="0" lang="en-US" sz="3400" spc="-1" strike="noStrike">
              <a:solidFill>
                <a:srgbClr val="080808"/>
              </a:solidFill>
              <a:latin typeface="Tahoma"/>
            </a:endParaRPr>
          </a:p>
        </p:txBody>
      </p:sp>
      <p:sp>
        <p:nvSpPr>
          <p:cNvPr id="20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prospectus is a formal document with a prescribed format which must be filed with the SEC</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reparing the prospectus is an intense and tedious process, requiring assistance of CPAs and lawyers familiar with the process.</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potential legal liabilities associated with making “forward looking statements” are sever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BBAD-442F-4B16-A8D1-93029ABF881B}"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1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Finding Buyers</a:t>
            </a:r>
            <a:endParaRPr b="0" lang="en-US" sz="3400" spc="-1" strike="noStrike">
              <a:solidFill>
                <a:srgbClr val="080808"/>
              </a:solidFill>
              <a:latin typeface="Tahoma"/>
            </a:endParaRPr>
          </a:p>
        </p:txBody>
      </p:sp>
      <p:sp>
        <p:nvSpPr>
          <p:cNvPr id="21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lead underwriter normally forms a syndicate of underwriters to ensure that all shares are sold on the date of issuance. This also disperses ownership, a positive thing for your company.</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y will also arrange a “Road Show” for management to pitch the company to investors in major cities in the US and sometimes in Europe and Asia. Management performance is critical.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1AF4-7B8E-4913-BB67-15AC731B116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1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Finding Buyers</a:t>
            </a:r>
            <a:endParaRPr b="0" lang="en-US" sz="3400" spc="-1" strike="noStrike">
              <a:solidFill>
                <a:srgbClr val="080808"/>
              </a:solidFill>
              <a:latin typeface="Tahoma"/>
            </a:endParaRPr>
          </a:p>
        </p:txBody>
      </p:sp>
      <p:sp>
        <p:nvSpPr>
          <p:cNvPr id="21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ny buyers on day of issuance are “flippers,” institutions or private individuals whose sole business is to buy IPO shares at the issuance price and sell them the same day in the secondary market for a profit.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y receive share allocations because they provide enormous commission income to the underwriters from other trading or investment banking activity.</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CFF5-9866-4DA7-AA3B-9397B1E64860}"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1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Finding Buyers</a:t>
            </a:r>
            <a:endParaRPr b="0" lang="en-US" sz="3400" spc="-1" strike="noStrike">
              <a:solidFill>
                <a:srgbClr val="080808"/>
              </a:solidFill>
              <a:latin typeface="Tahoma"/>
            </a:endParaRPr>
          </a:p>
        </p:txBody>
      </p:sp>
      <p:sp>
        <p:nvSpPr>
          <p:cNvPr id="21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 IPO is not declared final until about seven days after the day of issuance.</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practice, the underwriter performs a useful and valuable service, but their interests are extremely short term.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y know little about your company and care even less. You are valuable to them until they collect their fee, or if they see additional business coming from you down the roa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5D92-04C3-43AB-8869-D0E97872BE58}"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1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Open IPOs</a:t>
            </a:r>
            <a:endParaRPr b="0" lang="en-US" sz="3200" spc="-1" strike="noStrike">
              <a:solidFill>
                <a:srgbClr val="080808"/>
              </a:solidFill>
              <a:latin typeface="Tahoma"/>
            </a:endParaRPr>
          </a:p>
        </p:txBody>
      </p:sp>
      <p:sp>
        <p:nvSpPr>
          <p:cNvPr id="22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Open IPO  uses a “Dutch Auction” process to price the issue. Essentially, buyers bid for specific numbers of shares at a price of their choosing. When sufficient bids are received to sell all shares, the shares are then sold to all successful bidders at the lowest price bid from the group.</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procedure has yet to gain popularity.</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08FD-295D-46BD-AC2F-889FA0FC461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2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Going Public:</a:t>
            </a:r>
            <a:br>
              <a:rPr sz="3200"/>
            </a:br>
            <a:r>
              <a:rPr b="1" lang="en-US" sz="3200" spc="-1" strike="noStrike">
                <a:solidFill>
                  <a:srgbClr val="080808"/>
                </a:solidFill>
                <a:latin typeface="Tahoma"/>
              </a:rPr>
              <a:t>Alternative Methods</a:t>
            </a:r>
            <a:endParaRPr b="0" lang="en-US" sz="3200" spc="-1" strike="noStrike">
              <a:solidFill>
                <a:srgbClr val="080808"/>
              </a:solidFill>
              <a:latin typeface="Tahoma"/>
            </a:endParaRPr>
          </a:p>
        </p:txBody>
      </p:sp>
      <p:sp>
        <p:nvSpPr>
          <p:cNvPr id="22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Reverse Merger</a:t>
            </a:r>
            <a:endParaRPr b="0" lang="en-US" sz="24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this process, an existing public company acquires a private company “shell,” or legal entity. It has no operations, probably no assets except some cash, and hopefully no liabilities, especially contingent ones.</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is a cheap way to “go public,” but it entails significant risks and is generally considered a bad ide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9DC9-B6FB-4B7C-A474-B54080BAEE42}"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2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Going Public:</a:t>
            </a:r>
            <a:br>
              <a:rPr sz="3200"/>
            </a:br>
            <a:r>
              <a:rPr b="1" lang="en-US" sz="3200" spc="-1" strike="noStrike">
                <a:solidFill>
                  <a:srgbClr val="080808"/>
                </a:solidFill>
                <a:latin typeface="Tahoma"/>
              </a:rPr>
              <a:t>Alternative Methods</a:t>
            </a:r>
            <a:endParaRPr b="0" lang="en-US" sz="3200" spc="-1" strike="noStrike">
              <a:solidFill>
                <a:srgbClr val="080808"/>
              </a:solidFill>
              <a:latin typeface="Tahoma"/>
            </a:endParaRPr>
          </a:p>
        </p:txBody>
      </p:sp>
      <p:sp>
        <p:nvSpPr>
          <p:cNvPr id="22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Direct Public Offering</a:t>
            </a:r>
            <a:endParaRPr b="0" lang="en-US" sz="22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n this method, the company sells shares directly to the public, often via the internet. SEC filing requirements are less than IPOs.</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For very small offerings that do not appeal to underwriters.</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nvestors must beware that there is almost no liquidity for the shares.</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he hope is that liquidity will result from a subsequent listing on an exchange.</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400D-5EDA-4DE9-81CA-92E299510F5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2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Forms of DPOs:</a:t>
            </a:r>
            <a:br>
              <a:rPr sz="3400"/>
            </a:br>
            <a:r>
              <a:rPr b="1" lang="en-US" sz="3400" spc="-1" strike="noStrike">
                <a:solidFill>
                  <a:srgbClr val="080808"/>
                </a:solidFill>
                <a:latin typeface="Tahoma"/>
              </a:rPr>
              <a:t>SCOR/ULOR Offerings</a:t>
            </a:r>
            <a:endParaRPr b="0" lang="en-US" sz="3400" spc="-1" strike="noStrike">
              <a:solidFill>
                <a:srgbClr val="080808"/>
              </a:solidFill>
              <a:latin typeface="Tahoma"/>
            </a:endParaRPr>
          </a:p>
        </p:txBody>
      </p:sp>
      <p:sp>
        <p:nvSpPr>
          <p:cNvPr id="22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COR, or ULOR are Small Corporate or Uniform Limited Offering Registrations. State-administered.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aise up to $1 million during 1 year.</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tailed business plan replaces SEC prospectu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sts for professional fees are still significant, and legal liabilities of company officials can be severe if mistakes are made in the filing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C504-1E01-43B7-9873-5D6F7B749752}"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3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Forms of DPOs:</a:t>
            </a:r>
            <a:br>
              <a:rPr sz="4400"/>
            </a:br>
            <a:r>
              <a:rPr b="1" lang="en-US" sz="4400" spc="-1" strike="noStrike">
                <a:solidFill>
                  <a:srgbClr val="080808"/>
                </a:solidFill>
                <a:latin typeface="Tahoma"/>
              </a:rPr>
              <a:t>SB-2 Offerings</a:t>
            </a:r>
            <a:endParaRPr b="0" lang="en-US" sz="4400" spc="-1" strike="noStrike">
              <a:solidFill>
                <a:srgbClr val="080808"/>
              </a:solidFill>
              <a:latin typeface="Tahoma"/>
            </a:endParaRPr>
          </a:p>
        </p:txBody>
      </p:sp>
      <p:sp>
        <p:nvSpPr>
          <p:cNvPr id="23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B-2 offerings are regulated by the Federal government. They require a formal prospectus and financial statements according to GAAP.</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SB-2 is the basis for both Regulation A and Regulation D offering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9EF7-F88A-4DFE-9D61-8C3E2573E2C8}"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3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SB-2 Offerings:</a:t>
            </a:r>
            <a:br>
              <a:rPr sz="4400"/>
            </a:br>
            <a:r>
              <a:rPr b="1" lang="en-US" sz="4400" spc="-1" strike="noStrike">
                <a:solidFill>
                  <a:srgbClr val="080808"/>
                </a:solidFill>
                <a:latin typeface="Tahoma"/>
              </a:rPr>
              <a:t>Regulation A</a:t>
            </a:r>
            <a:endParaRPr b="0" lang="en-US" sz="4400" spc="-1" strike="noStrike">
              <a:solidFill>
                <a:srgbClr val="080808"/>
              </a:solidFill>
              <a:latin typeface="Tahoma"/>
            </a:endParaRPr>
          </a:p>
        </p:txBody>
      </p:sp>
      <p:sp>
        <p:nvSpPr>
          <p:cNvPr id="23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ederal equivalent of a SCOR offering.</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quires 2 years of financial statements. Filings are exempt from SEC filing provisions, but must still conform to State laws, and anti-fraud and liability statute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pital raising limited to $5 million in a 12 month period. Sales may be made only to “accredited investo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ECF1-F507-4846-921E-A4BF1E31F39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Strategies: Valuation</a:t>
            </a:r>
            <a:endParaRPr b="0" lang="en-US" sz="3200" spc="-1" strike="noStrike">
              <a:solidFill>
                <a:srgbClr val="080808"/>
              </a:solidFill>
              <a:latin typeface="Tahoma"/>
            </a:endParaRPr>
          </a:p>
        </p:txBody>
      </p:sp>
      <p:sp>
        <p:nvSpPr>
          <p:cNvPr id="103" name="PlaceHolder 2"/>
          <p:cNvSpPr>
            <a:spLocks noGrp="1"/>
          </p:cNvSpPr>
          <p:nvPr>
            <p:ph/>
          </p:nvPr>
        </p:nvSpPr>
        <p:spPr>
          <a:xfrm>
            <a:off x="566280" y="1752120"/>
            <a:ext cx="7967880" cy="4419720"/>
          </a:xfrm>
          <a:prstGeom prst="rect">
            <a:avLst/>
          </a:prstGeom>
          <a:noFill/>
          <a:ln w="0">
            <a:noFill/>
          </a:ln>
        </p:spPr>
        <p:txBody>
          <a:bodyPr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t>
            </a:r>
            <a:r>
              <a:rPr b="0" lang="en-US" sz="2800" spc="-1" strike="noStrike">
                <a:solidFill>
                  <a:srgbClr val="080808"/>
                </a:solidFill>
                <a:latin typeface="Tahoma"/>
              </a:rPr>
              <a:t>How Much” will depend upon market conditions at the time of exit (“liquidity event”) and the “multiples” typically used in that industry.</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Know what valuation methodologies are used in your industry, e.g., multiples of 3-5 times earnings are common for medium-sized manufacturing companies. </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ultiples can vary based on how good or bad the market is for exi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6AB8-D904-44D0-9205-D21A99BA0E3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3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SB-2 Offerings:</a:t>
            </a:r>
            <a:br>
              <a:rPr sz="4400"/>
            </a:br>
            <a:r>
              <a:rPr b="1" lang="en-US" sz="4400" spc="-1" strike="noStrike">
                <a:solidFill>
                  <a:srgbClr val="080808"/>
                </a:solidFill>
                <a:latin typeface="Tahoma"/>
              </a:rPr>
              <a:t>Regulation D-Rule 504</a:t>
            </a:r>
            <a:endParaRPr b="0" lang="en-US" sz="4400" spc="-1" strike="noStrike">
              <a:solidFill>
                <a:srgbClr val="080808"/>
              </a:solidFill>
              <a:latin typeface="Tahoma"/>
            </a:endParaRPr>
          </a:p>
        </p:txBody>
      </p:sp>
      <p:sp>
        <p:nvSpPr>
          <p:cNvPr id="23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ule 504 allows a company to raise up to $1 million in a 12 month period through selling share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 Federal regulation, but must notify the SEC with a Form D.</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ust comply with applicable State regulation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ust sell to “accredited investo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92CB-78BF-48D8-8352-76228D61B30B}"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Most Likely Exit Options</a:t>
            </a:r>
            <a:endParaRPr b="0" lang="en-US" sz="3200" spc="-1" strike="noStrike">
              <a:solidFill>
                <a:srgbClr val="080808"/>
              </a:solidFill>
              <a:latin typeface="Tahoma"/>
            </a:endParaRPr>
          </a:p>
        </p:txBody>
      </p:sp>
      <p:sp>
        <p:nvSpPr>
          <p:cNvPr id="10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realistic exit option will increase the attractiveness of your proposal. For most companies, an IPO is not a realistic option.</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ther options include:</a:t>
            </a:r>
            <a:endParaRPr b="0" lang="en-US" sz="28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cquisition by a strategic buyer</a:t>
            </a:r>
            <a:endParaRPr b="0" lang="en-US" sz="24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Earn-out (buy-out) by management</a:t>
            </a:r>
            <a:endParaRPr b="0" lang="en-US" sz="24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Debt-equity swap</a:t>
            </a:r>
            <a:endParaRPr b="0" lang="en-US" sz="24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Merger with a similar firm</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CFA9-B50F-4830-8F9C-7F89758E5CB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cquisition by a Strategic Buyer</a:t>
            </a:r>
            <a:endParaRPr b="0" lang="en-US" sz="3200" spc="-1" strike="noStrike">
              <a:solidFill>
                <a:srgbClr val="080808"/>
              </a:solidFill>
              <a:latin typeface="Tahoma"/>
            </a:endParaRPr>
          </a:p>
        </p:txBody>
      </p:sp>
      <p:sp>
        <p:nvSpPr>
          <p:cNvPr id="10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rategic means that the buyer’s interest goes beyond simple financial consideration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crease market share</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dd to product line</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liminate competition </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nter a new market or territory</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financial buyer simply seeks to make a profit by selling the company later.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85F3-B27D-4B19-AA36-C980BB27CC40}"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cquisition by a Strategic Buyer:</a:t>
            </a:r>
            <a:br>
              <a:rPr sz="3200"/>
            </a:br>
            <a:r>
              <a:rPr b="1" lang="en-US" sz="3200" spc="-1" strike="noStrike">
                <a:solidFill>
                  <a:srgbClr val="080808"/>
                </a:solidFill>
                <a:latin typeface="Tahoma"/>
              </a:rPr>
              <a:t>Equity Sale</a:t>
            </a:r>
            <a:endParaRPr b="0" lang="en-US" sz="3200" spc="-1" strike="noStrike">
              <a:solidFill>
                <a:srgbClr val="080808"/>
              </a:solidFill>
              <a:latin typeface="Tahoma"/>
            </a:endParaRPr>
          </a:p>
        </p:txBody>
      </p:sp>
      <p:sp>
        <p:nvSpPr>
          <p:cNvPr id="112" name="PlaceHolder 2"/>
          <p:cNvSpPr>
            <a:spLocks noGrp="1"/>
          </p:cNvSpPr>
          <p:nvPr>
            <p:ph/>
          </p:nvPr>
        </p:nvSpPr>
        <p:spPr>
          <a:xfrm>
            <a:off x="1828440" y="1593720"/>
            <a:ext cx="7077240" cy="5075280"/>
          </a:xfrm>
          <a:prstGeom prst="rect">
            <a:avLst/>
          </a:prstGeom>
          <a:noFill/>
          <a:ln w="0">
            <a:noFill/>
          </a:ln>
        </p:spPr>
        <p:txBody>
          <a:bodyPr anchor="t">
            <a:normAutofit/>
          </a:bodyPr>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Buyer acquires all assets and liabilities of the company, including contingent liabilities, if any.</a:t>
            </a:r>
            <a:endParaRPr b="0" lang="en-US" sz="3000" spc="-1" strike="noStrike">
              <a:solidFill>
                <a:srgbClr val="080808"/>
              </a:solidFill>
              <a:latin typeface="Tahom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Acquisition is often by means of a stock for stock share swap.</a:t>
            </a:r>
            <a:endParaRPr b="0" lang="en-US" sz="3000" spc="-1" strike="noStrike">
              <a:solidFill>
                <a:srgbClr val="080808"/>
              </a:solidFill>
              <a:latin typeface="Tahom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Share swaps are especially popular when equity markets are strong.</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F272-B5F7-4C74-A72B-C059EDE2F221}"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cquisition by a Strategic Buyer: Stock Swap Pros</a:t>
            </a:r>
            <a:r>
              <a:rPr b="1" lang="en-US" sz="3600" spc="-1" strike="noStrike">
                <a:solidFill>
                  <a:srgbClr val="080808"/>
                </a:solidFill>
                <a:latin typeface="Tahoma"/>
              </a:rPr>
              <a:t> </a:t>
            </a:r>
            <a:endParaRPr b="0" lang="en-US" sz="3600" spc="-1" strike="noStrike">
              <a:solidFill>
                <a:srgbClr val="080808"/>
              </a:solidFill>
              <a:latin typeface="Tahoma"/>
            </a:endParaRPr>
          </a:p>
        </p:txBody>
      </p:sp>
      <p:sp>
        <p:nvSpPr>
          <p:cNvPr id="11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Typically tax free</a:t>
            </a:r>
            <a:endParaRPr b="0" lang="en-US" sz="34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Opportunities for increasing value in a rising stock market</a:t>
            </a:r>
            <a:endParaRPr b="0" lang="en-US" sz="34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Does not require cash.</a:t>
            </a:r>
            <a:endParaRPr b="0" lang="en-US" sz="3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3:22:51Z</dcterms:created>
  <dc:creator>User</dc:creator>
  <dc:description/>
  <cp:keywords/>
  <dc:language>en-US</dc:language>
  <cp:lastModifiedBy>User</cp:lastModifiedBy>
  <dcterms:modified xsi:type="dcterms:W3CDTF">2009-03-17T13:26:11Z</dcterms:modified>
  <cp:revision>1</cp:revision>
  <dc:subject/>
  <dc:title>Raising Entrepreneurial Capital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421033</vt:lpwstr>
  </property>
</Properties>
</file>